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F29A1-CDFB-4887-B5F0-C84135FEA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6B21F-B087-448C-A6E4-D596C7C90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1FBC0-3E16-49B8-8271-48B74C90C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EB287-8D74-4CEC-9EBC-400832A2C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77B7B-0C6D-4429-AD4D-61218EFE7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AE1CE-BC06-451B-B0D3-BFC18FDD6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32492-01FF-4778-9B69-A29F3E907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14F6B-48F4-42CC-AFCE-C9BDD904E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E91A9-D55B-41BA-873B-102DE3A78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7F307-64DF-45C3-8B1C-5FCA2F5FB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E1845-A453-4619-916A-3F16A0408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13464-F407-4A07-B5BA-41886F721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216C6-3089-4FE5-A411-B76C2201E7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14324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989800" y="380880"/>
            <a:ext cx="7282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إذ دخلـتُ قدسَكَ ورأيـت عرشَ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كل من هم حولك يُنشـدون مجدَ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أخجلتني صورتي وصرختُ ويلت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هل نظــيري ينفـعُ لســيـدي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42040" y="4568760"/>
            <a:ext cx="7803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ومنيتي سيدي أرسلني حيثما تريد</a:t>
            </a: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فكل ما في يدي لسيدي ربي المجي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لا تكن إرادتي بل ما أنت لي تريـ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وليكـن مجـد اسـمـك رسـالتي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14324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132360" y="380880"/>
            <a:ext cx="7151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أمام طهرِ عرشَكَ أُدرك نجاست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من أنا يا سيدي كي تجيب طلبت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مُسَّ ربي شفتاي بلهيب جمـر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فأصـير لائـقـاً لخـدمـتـ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642040" y="4568760"/>
            <a:ext cx="7803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ومنيتي سيدي أرسلني حيثما تريد</a:t>
            </a: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فكل ما في يدي لسيدي ربي المجي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لا تكن إرادتي بل ما أنت لي تريـ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وليكـن مجـد اسـمـك رسـالتي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14324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302200" y="304920"/>
            <a:ext cx="8254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أي مجدٍ سيدي أي فخرٍ بل يزي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أي بهجة هنا لأنني بك سعي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مهما أسعى سيد لن أفي الحب الفري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بســرورٍ ســيدي أُطـيـعـك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42040" y="4568760"/>
            <a:ext cx="7803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ومنيتي سيدي أرسلني حيثما تريد</a:t>
            </a: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فكل ما في يدي لسيدي ربي المجي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لا تكن إرادتي بل ما أنت لي تريـ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وليكـن مجـد اسـمـك رسـالتي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2T05:13:23Z</dcterms:created>
  <dc:creator>HANI SAFI</dc:creator>
  <dc:description/>
  <dc:language>en-US</dc:language>
  <cp:lastModifiedBy>HANI SAFI</cp:lastModifiedBy>
  <dcterms:modified xsi:type="dcterms:W3CDTF">2003-04-12T05:18:14Z</dcterms:modified>
  <cp:revision>1</cp:revision>
  <dc:subject/>
  <dc:title>Slide 1</dc:title>
</cp:coreProperties>
</file>